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C5BB-BE1E-4669-9D9C-799453C35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FB88-03E0-43A7-A159-90ABBF32C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250A-4ED4-471A-BEE9-C1F6698B9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9C08-7F3B-45ED-B13E-7C506D398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CF6E-68B2-4102-B864-63C76A2E5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A1D4-4B21-4247-A0BF-799F2B81E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C397-E64A-4D94-8C9B-23348551C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2975-79F8-47F6-BE69-7F5D5957B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6943-4AA2-487E-8D4F-415689B71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CCAF-C700-4353-8FFA-DE4086D58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0BE7-D1F1-4C41-8DC7-449DAB9AE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5CE2-F979-4CD2-A69E-764ABACB5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25D6-5FDD-4496-BD2C-2337AE0053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EBF2-7F79-40A2-95BA-4E05BA1768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Numb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03A-EEDE-4DCC-B790-59B7713B7B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Learning Goal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720" y="25142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3000"/>
          </a:bodyPr>
          <a:p>
            <a:pPr marL="32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b42478"/>
                </a:solidFill>
                <a:latin typeface="Tahoma"/>
                <a:ea typeface="Times New Roman"/>
              </a:rPr>
              <a:t>-To help teachers to realize that they have control of how things work in their class.  As teachers, we decide how things are going to work.</a:t>
            </a: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en-CA" sz="3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-</a:t>
            </a: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To give teachers an idea of some of the ways that you can work things in a classroom.  Ideas like giving students time to talk and discuss and making your class a problem-centered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-There are other ways to work with struggling students other than showing them a step-by-step procedure for how to solve problems.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C19-D8A5-4D56-99F9-3FEF0B393D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Who Am I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E378-FD08-491E-903D-223FE79E8C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7720" y="2209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Teamwor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94E-0FF6-4FEE-BD36-FC1125DEB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04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7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Building with Linking Cubes, petcet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7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25E-68A5-48D4-B997-06AEE86C62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159984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Let’s Ta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CC98-7F5E-424F-A60C-CA1ED7A309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90d8"/>
                </a:solidFill>
                <a:latin typeface="Tahoma"/>
                <a:ea typeface="Tahoma"/>
              </a:rPr>
              <a:t>Working With Struggling Students</a:t>
            </a:r>
            <a:br>
              <a:rPr sz="4800"/>
            </a:b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b42478"/>
                </a:solidFill>
                <a:latin typeface="Tahoma"/>
                <a:ea typeface="Times New Roman"/>
              </a:rPr>
              <a:t>Exit P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12T15:35:38Z</dcterms:modified>
  <cp:revision>9</cp:revision>
  <dc:subject/>
  <dc:title>&lt;Title&gt;</dc:title>
</cp:coreProperties>
</file>